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A7E-33A7-48C3-B8CF-CD4853C1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D00-F03C-4FFD-9415-4930CC55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53A-B0A0-4E0F-8C6C-664AB951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4BB-5BB5-4E6F-8592-5362F526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767-3FDD-4816-A7B0-1837A7C6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461-1F87-4A18-B77F-F1A20A60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023-193C-4E1C-AC15-FDB5B1BD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144-8868-415C-B688-B5B025A2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958-3FCD-4550-9A19-47C0F2B5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D61-4A59-4227-8F6A-3F392FD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C23-14FD-43F0-817B-8DC75B09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CAE-CE13-4C57-B19C-519F4363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4398-38DE-4974-86A5-C4834D4DB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Sara Houthoof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886200" y="2286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971800" y="1066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971800" y="38088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1430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 study of wisdom and the right way to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03 0.00139 C 0.13403 -0.08784 0.08403 -0.16504 0.01701 -0.17036 C -0.04705 -0.17706 -0.10695 -0.11719 -0.11094 -0.03051 C -0.11597 0.04924 -0.07396 0.12391 -0.01389 0.12922 C 0.04097 0.13315 0.09305 0.08392 0.09705 0.00948 C 0.10104 -0.05848 0.06597 -0.12251 0.0151 -0.12783 C -0.03195 -0.13176 -0.07604 -0.09038 -0.07899 -0.02797 C -0.08195 0.02798 -0.05399 0.08253 -0.01198 0.0853 C 0.02604 0.08923 0.06198 0.05733 0.0651 0.00671 C 0.06701 -0.0386 0.04601 -0.08275 0.01302 -0.08506 C -0.01597 -0.08784 -0.04497 -0.0638 -0.04705 -0.02519 C -0.04896 0.0081 -0.03403 0.04 -0.0099 0.04277 C 0.01007 0.04531 0.03108 0.03052 0.03212 0.00417 C 0.03403 -0.01733 0.02604 -0.03999 0.01111 -0.04253 C -0.00104 -0.04253 -0.01302 -0.03721 -0.01493 -0.02265 C -0.01597 -0.01317 -0.01389 -0.00393 -0.00799 -4.68331E-006 C -0.00504 0.00139 -0.00295 0.00139 1.11111E-006 -4.68331E-006 E">
                                      <p:cBhvr>
                                        <p:cTn id="11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743200" y="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ea of land nearly surround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981080" y="30492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1371600" y="11430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war between Athens and Spa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3124080" y="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0" y="838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657600" y="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2952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eltered place along a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acropoli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220968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0" y="25909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3.gstatic.com/images?q=tbn:ANd9GcSKLUN36h8nJvKJbzSXCNtaApVjNNhEBvYORrMNePNv9-OrWMAZ"/>
          <p:cNvPicPr/>
          <p:nvPr/>
        </p:nvPicPr>
        <p:blipFill>
          <a:blip r:embed="rId1"/>
          <a:stretch/>
        </p:blipFill>
        <p:spPr>
          <a:xfrm>
            <a:off x="2057400" y="74520"/>
            <a:ext cx="6095880" cy="678348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200400" y="3049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352680" y="38088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2743200" y="13716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124080" y="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9144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group of people who lived apart from Greece but kept economic ties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666880" y="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3733920" y="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y hear evidence and make decisions in a court of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590920" y="3049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219320" y="9144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headed by one r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46:19Z</dcterms:modified>
  <cp:revision>103</cp:revision>
  <dc:subject/>
  <dc:title>Ancient Greece</dc:title>
</cp:coreProperties>
</file>